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C97-191A-4E58-9BF4-EDE46AF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729-6F23-4D72-B75E-718941D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B91-8125-49F6-BC89-B81DA428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CE1-ED65-46DA-B4BB-B3A4C976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C53-C261-43BC-8783-CA919A3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D0C-4904-4C37-930B-B8DE76C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6E5-B948-4791-B3D0-E53F2EA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A76-672E-43E3-A146-F1001E66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65B-F853-47AF-A964-6549CB3C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86B-2709-4A39-AB5E-DFC03834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32D-C084-4D83-94DB-927D972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AB4-7EBC-4E20-B0FD-D014F8F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B1AA-BB20-4682-B8E1-1CD1B2B61A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9180360" cy="58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19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brança e Gestão de Recursos Hídricos no Estado do Rio de Jan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0"/>
            <a:ext cx="5976360" cy="1125000"/>
            <a:chOff x="3203640" y="0"/>
            <a:chExt cx="5976360" cy="11250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203640" y="0"/>
              <a:ext cx="5976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203640" y="462960"/>
              <a:ext cx="3562200" cy="65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22960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IRHI: Sistema Estadual de Informações, Cadastro e Outo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GIS Baía da Guanab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poio BID / MMA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ntegração com a 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poio a AGEVAP /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aboração do Plano do Gu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vênio ANA / SER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estruturação d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Gestão dos Canais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atibilização CEUA / GESTIN / SI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tuação do Comitê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861084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3501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tês instit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Estadual do Guandu: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cia do Macaé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Lagos-São João: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provados pelo CERH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751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ía da Guanabara 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o rio Piab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ssões pró-comit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Dois Rios (Serra-N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Oeste da Baía de Guana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a foz do ri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Maca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tuação do Comitês: regulamentação do Art. 10 da Lei 3239/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76520"/>
            <a:ext cx="8001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10  –  Para fins de gestão de Recursos Hídricos, o território do Estado do Rio de Janeiro fica dividido em Regiões Hidrográficas (RH’s), conforme regula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52, em seu Parágrafo Único, define que cada CBH terá como área de atuação e jurisdição a totalidade de uma bacia hidrográfica de curso d’água de primeira ou segunda ordem; ou um grupo de bacias hidrográficas contígu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posta Modelo de Governanç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Bacias Estaduais Costeir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tribuir às agências personalidade jurídica própria: mandato legal imune às 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nsórcios de bacia: boa experiência entretanto pode haver esvaziamento com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Entidade delegatária/ OSC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poio/Integração com as Agências Regionais da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Modelo não impõe limitações à organização de comitês (bacias, sub-ba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05120"/>
            <a:ext cx="82296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ço/2003: Cobrança nos rios de domínio da União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/ Deliberaçã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Janeiro /2004: Cobrança nos rios de domínio estadual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447920"/>
            <a:ext cx="84582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 partir de Março/2004: Cobrança por metodologia provisória nas demais bacias “estadua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Lei 4247/2003 (disposições transitó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bril/2005: Cobrança na Bacia do Guandu por metodologia aprovada pelo Comi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Resolução Comitê Guandu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Em implantação pela SERLA / Negociação Comitê, SERLA e Usuários (CED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20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909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4556160"/>
            <a:ext cx="4953240" cy="230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8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 integração entre os instrumentos de gestão de recursos hídricos nas esferas Federal e Estadual é uma norma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ioneirismo do Estado Rio de Janei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Ex.: aprovação de deliberação pelo CEIVAP para aplicação dos recursos da cobrança estadual do Rio de Janeiro, inclusive com verba para o fortalecimento da agência da bacia do Paraíba do Sul, a AGEV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47840" y="228600"/>
            <a:ext cx="674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7848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ção e manutenção de Secretaria Executiva para o Comitê Guan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ase Legal: Resolução Comitê/Resoluçã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strumento contratual: Convênio com a UFRRJ (ERJ não tem contrato de gest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2296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ASTAR” dinheiro da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soluções dos Comitês aprovadas pel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repasse de recursos do FUNDO para Comitês e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depósito automático da CFURH no 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r demais Comitês: Deliberação CERHI sobre base territorial de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otar Comitês de Secretaria Executiva e Planos de 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58:36Z</dcterms:created>
  <dc:creator>Marilene</dc:creator>
  <dc:description/>
  <dc:language>en-US</dc:language>
  <cp:lastModifiedBy>aluno</cp:lastModifiedBy>
  <dcterms:modified xsi:type="dcterms:W3CDTF">2005-04-18T14:50:42Z</dcterms:modified>
  <cp:revision>2</cp:revision>
  <dc:subject/>
  <dc:title>Slide sem título </dc:title>
</cp:coreProperties>
</file>